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5D8-C88E-4E42-A2E6-D6E9A4C8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0E5-CCE0-48B9-87F7-3B4C756E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9F3-BD41-4249-9871-309D6B56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953-089E-455F-9B14-28598EBA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5884-621B-46B0-BD94-218A7F39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DD5E-D2E5-498A-AC3C-F3A45568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5388-4326-44F9-B2E3-742C8A2C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2F48-A9E3-4650-97B8-D863C1B7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56FF-438D-4646-8B1F-5480A7EB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2E86-A261-4D87-B749-659F0742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8FF2-9CC1-4A10-80B5-60EA02E5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A456-0BF3-49E0-A4C4-248540BE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EDBC-A3E2-4C43-BF4E-E9A7812D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8465-EF1F-4C77-AFBB-6A48DF11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64B1-8F62-41C2-B12C-1E7468D2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F10E-B42A-4D6B-A562-49378876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33A5-9629-40F7-99BA-D6DBFEC7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BAB-1C9D-404B-B13D-69757994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53A-56D0-4FB4-81F3-C2B25D10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B2D-DFB0-45AF-B132-C388E1D2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48D-6263-4CB2-9E45-800CEA20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3292-4C9F-4D60-ABD4-BB98E939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F37D-DDE7-49F4-B952-342C8841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876B-387C-444D-9CA3-6B819074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8EEAC3-4C68-4B37-8FE3-E480C1643C7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33EFC4-92C9-428C-8083-263B775A844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521964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 клас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О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0" y="2853000"/>
            <a:ext cx="550764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 cap="all">
                <a:solidFill>
                  <a:schemeClr val="accent4"/>
                </a:solidFill>
                <a:latin typeface="Calibri"/>
              </a:rPr>
              <a:t>«ЮНОСТЬ И НАДЕЖДЫ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img12.proshkolu.ru/content/media/pic/std/5000000/4082000/4081061-741f0e362440d869.jpg"/>
          <p:cNvPicPr/>
          <p:nvPr/>
        </p:nvPicPr>
        <p:blipFill>
          <a:blip r:embed="rId1"/>
          <a:stretch/>
        </p:blipFill>
        <p:spPr>
          <a:xfrm>
            <a:off x="5220000" y="476640"/>
            <a:ext cx="3803400" cy="58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60640"/>
            <a:ext cx="4258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Этюд головы девочки»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. Рубенс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361044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Опишите. Что вы видите на этом портрете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331880" y="0"/>
            <a:ext cx="481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Мика Морозов» В. Сер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971640" y="908640"/>
            <a:ext cx="6822360" cy="59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8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ридумай и нарисуй образ радости детства и светлой юности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Юность и надеж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и всех народов стремятся к счастью и верят, что в будущем жизнь будет лучш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 не может жить без мечты. А мечты и надежды связывают с юностью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искусстве всех народов есть светлая тема радости жизни, красоты молодости, тема счасть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640" y="476640"/>
            <a:ext cx="26744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енины»-Веласкес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556640"/>
            <a:ext cx="3131640" cy="53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 групповой портрет, на нем изображена королевская семья(король Филип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его жена) и придворные королевы и инфанты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просторном зале королевского дворца стоит тишина. По придворному этикету, пока король безмолвствует, никто не имеет права говорить. Вдруг распахивается дверь, и в нее вбегает маленькая светловолосая девочка в неудобном темном платье. Придворные дамы и кормилица стараются удержать ее от неуместного проявления резвости и нарушения этикета, но инфанта (принцесса) не слушается, ей хочется бегать и резвиться. Увидев отца и мать, она внезапно останавливается, а менина, почтительно склонившись, подносит бокал воды, чтобы успокоить ее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Какие детские черты раскрыл художник в картине «Менины»?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211920" y="0"/>
            <a:ext cx="59317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466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Какие детские черты раскрыл художник в картине «Менины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посредственност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алост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зорство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дость детств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636000" y="1484640"/>
            <a:ext cx="5218200" cy="48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60116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инаида Серебрякова «Портрет дочери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s48.radikal.ru/i122/1005/f0/a4db097f8e40.jpg"/>
          <p:cNvPicPr/>
          <p:nvPr/>
        </p:nvPicPr>
        <p:blipFill>
          <a:blip r:embed="rId1"/>
          <a:stretch/>
        </p:blipFill>
        <p:spPr>
          <a:xfrm>
            <a:off x="4572000" y="692640"/>
            <a:ext cx="4469400" cy="616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vadiman79.users.photofile.ru/photo/vadiman79/115640170/xlarge/134581427.jpg"/>
          <p:cNvPicPr/>
          <p:nvPr/>
        </p:nvPicPr>
        <p:blipFill>
          <a:blip r:embed="rId2"/>
          <a:stretch/>
        </p:blipFill>
        <p:spPr>
          <a:xfrm>
            <a:off x="323640" y="744480"/>
            <a:ext cx="4080600" cy="61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394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ртрет старика с внуком»- ит. Художни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V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. Гирландайо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440" cy="514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р сравнивает два возраста. С какой любовью и теплом  смотрят друг на друга дедушка и его маленький внучек, жившие 500 лет назад!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 ли уж отличаются  они от современных дедушек и их любимых внуков?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6160" indent="-326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хотел рассказать зрителю художник?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Знание, опыт даются людям путем жертв и горя. Только в начале жизни, в детстве существует радостный взгляд на жизнь)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4140000" y="0"/>
            <a:ext cx="500364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640" y="274680"/>
            <a:ext cx="41040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3000"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ртрет мальчика Челищева(1809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.А. Кипренски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3826440" cy="500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 внимание художник сосредоточил  на передаче выражения лица. Его привлекательное умное лицо чуть повернуто вправо, большие темные глаза широко открыты и внимательно, пытливо смотрят на зрителя, на мир. Это сверстник Пушкина и декабристов, старший брат Лермонтов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О чем он думает и мечтает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Какие черты детского характера изобразил художник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Надежда на светлое будущее, мечты о подвигах, путешествиях, открытиях)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835800" y="0"/>
            <a:ext cx="53078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9624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Девочка с персиками»(1887) В. Сер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302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центре картины художник поместил девочку-подростка Верушу Мамонтову. Весь облик ее говорит о живости характера, темпераменте. Девочка сидит за столом светло-розовой блузе. Перед ней на светлой скатерти персики и осенние листья. Комната озарена осеним светом, идущие через большие окна. Девочка как будто присела на минуту и тотчас умчится, едва художник закончит ее рисовать. Сразу видно, что долго сидеть ей труднее, чем бегать, прыгать целый день!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Чем она похожа на вас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Какие впечатления у вас от этой картины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Что вы можете сказать о детстве этой девочки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448080" y="404640"/>
            <a:ext cx="5695560" cy="61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322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ртрет сына»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. Тропинин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8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артине приковывают  внимание глаза мальчика. Он пытливо смотрит в наш мир, ищет ответы на свои вопросы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Что вы можете сказать о таких средствах выразительности, как цвет и свет, в этой картине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858840" y="0"/>
            <a:ext cx="52848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  <Words>555</Words>
  <Paragraphs>41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20:20:47Z</dcterms:created>
  <dc:creator>User</dc:creator>
  <dc:description/>
  <dc:language>en-US</dc:language>
  <cp:lastModifiedBy>Юлия</cp:lastModifiedBy>
  <dcterms:modified xsi:type="dcterms:W3CDTF">2014-05-11T10:50:26Z</dcterms:modified>
  <cp:revision>18</cp:revision>
  <dc:subject/>
  <dc:title>Тема: «Юность и надежд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